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573-D0EB-4C3D-90F1-70ABCD92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19B-0B43-4C45-A900-37235D78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304-D509-4FB7-B236-D17455A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E4F-1EBE-4A3A-8BB0-A8DAA7E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9CA-AF89-4013-87BE-E6C5218E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817-D376-4B8F-9DB3-BC0CF34E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D9C-3DDD-4AD9-B879-891F32F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628-523E-465C-95EB-6DF7E99B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B14-466B-4A3C-9620-AF93E4B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EBE-9755-49BA-A713-230A9573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F4E-1C8C-4DC9-9ECD-F6C0668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9DF-8362-45D5-9283-C0D25F7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4ED-9092-40EB-AB74-634605A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2E7-38A5-47E8-993E-C838A45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FF5-7515-4958-B394-F7ABD350F1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љења унутрашњих гениталних органа жене. </a:t>
            </a:r>
            <a:br>
              <a:rPr sz="2900"/>
            </a:b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 абдоме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 др Мирјана Варјач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YLOMAT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UMIN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umani papiloma virusi 6,11,16,18,31 ili kombinacija ovi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ktivnost srednjeg step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убацио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dylomata 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HOMONAS VAGINAL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форм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ела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Trichimonas v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оци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баци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H   5,5  i vi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4-4,5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У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ic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HOMONAS VAGIN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стр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yl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olutno kontraindikovan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I tr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dnoć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ne krem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veče u toku 7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etadine vag. G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i III trimestar   Th: Fl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250mg 3x1  5dana ili 375mg 2x1 5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A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dose   2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nidazo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IDIA TRACHOMA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 negativni  intracelularni parazit –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idia trachoma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gonokokni uretritis,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onični konjunktivitis, blenore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пурулент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вика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е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ст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ви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ici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riti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ур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ур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пурулент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р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IDIA TRACHOMATI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7720" y="25146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АМА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ЦЕР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ЦЕРВИКС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ЦЕРВИ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п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ЦЕРВИ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IDIA TRACHOMA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192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и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е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л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УЧ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мид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ч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зулт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рвикал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4-3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lamidija antigen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oxycycline 100mgx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loxacin 400mg 2x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oxicillin 500mg 3x1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ritromycin 500mg ,1g x4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уал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ва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ци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PES VIRUS SIMPL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ур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реун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цер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п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т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ној 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винал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пат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алг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воростручена,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PES VIRUS SIMPL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А ИНФЕ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це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лизац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инфек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е лез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вин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пат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присут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м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присут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алг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Нису присут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PES VIRUS SIMPL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жи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и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-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-1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оростру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ик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инфек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артне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цир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удниц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ИНФЕК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ЛИЋ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и 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vir, Zovir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vir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, tablete (200mg    6x1 ili 400m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dnevno 7-10 dana  ili 800mg 1x dnev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Љ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ушујућ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ifikovan skvamozni epit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bazalni, -parabazalni, -intermedijalni - superficijal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iferacija, maturacija I deskvamacija – uslovljen nivoom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лор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omin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j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ktobacil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acidophil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jenseni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crisp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fu/g of vaginal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NO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 negativni ANAEROB intracelularni diplok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птоматск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ста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Pritisk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uretra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ene-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l cedi se gnoj kroz meatus uret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ć apsces Barthol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jeve žlezd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s-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reja, endosalp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екол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к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ед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вин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пат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лоп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-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цира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NORRHE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 - Gonokokn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ви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phin 250mg i.m. 1x dnevno plus Doxycycline 100mg x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xicillin 3g   plus Probenecid  1g  plus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phin 250mg i.m.x1 plus 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ycin 500mg 4x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IL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heta Treponem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d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нкубација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ц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het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циј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ђењ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- 9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чени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CULOSIS PUBIS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hthirus pubis ili  njegove gnj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ш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цира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птоматс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е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к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њид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ат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и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а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кориј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ање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цира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мпо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мпо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љења горњег дела гениталних органа жен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ping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pho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eoperito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onitis  difu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 – 2% за млађе од 25 го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 вероватноћа да ће се болест понови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 које користе контрацептивне пилуле изложеније су инфекцијама chlamidijom, али су зато заштићеније од инфекција у абдо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ризик обољевања због манипулација од стране гинеколога (биопсија, киретажа, киретажа ендометријума) – узрок у око 15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за  обоље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почетак сексуалне а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 полног 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партн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цеп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цервикална манип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утер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викална сл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сталтика утер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о тело (спир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огиј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 преносиве боле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idia trachoma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sseria gonorrhoe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plasma homin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ilococcu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emophillu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ероб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oide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ococcu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tridium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omyces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ширењ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зни пут (менструација!!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ог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ontinuita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акутне упале у малој карлиц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доњем делу трбуха  9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аднекса при палапацији  9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а седиментација  7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нормалан вагинални исцедак  6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но крварење  3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а температура  3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уричне тегобе  1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од стране ГИТ ( пролив и тенез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систем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05120"/>
            <a:ext cx="701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ир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ч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ч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улу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орфонуклеар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оф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ооваријални абсц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а се у 10-15%  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д оних око 30 године живота које су рађ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проблем је појава абсцеса код жена у менопаузи – најчешће је реч о удруженој малигној болести (25%), перфорацији шупљих органа или перфорација утеруса при интервен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критеријуми за дијагнизу упал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(обавез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а осетљивост дољег абд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о померање грл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а осетљивост адне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(један од знак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изнад 38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 CRPповишена седи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микробиолошки налаз бриса грл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 – непроходност туб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ве упале – 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друге упале – 2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реће упале  40-75% (зависно од старости пацијенткињ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damicy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amicy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nidas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sicyc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tromi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alosporini treće gener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кутни абд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гли акутан бол у трбу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ан и напет трбушни з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флексно напињање трбушног зида при палпа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останак цревне перистал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2133720"/>
            <a:ext cx="7696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шна шупљина 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ЈЕДИНСТВЕ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косистем вагине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40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ндоген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нтибиотск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ичн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гије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нтетичко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убљ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рес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нксиоз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лорисан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заштићен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нос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перм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нтрацеп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унодефициј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р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гзоге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нстру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кта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мпети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кроорганизм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аги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абете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лли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збиљ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стем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ријска ваги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amo nekoliko (vodonik periksid produkujućih  Laktobaci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 mikroorganizama po gramu tkiva  veći od  10</a:t>
            </a:r>
            <a:r>
              <a:rPr b="1" lang="sl-SI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: aerobi    100:1 do 1000: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dnerell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utna  kod 95% ž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uncus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utan  kod  50-70% ž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plasma homini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utna kod  60-70% ž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</a:t>
            </a:r>
            <a:br>
              <a:rPr sz="36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р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зиран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лич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скоз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м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исео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Х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њи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тиче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гледу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кулум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онуклеарних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утроф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kterijska vagino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сп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и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y o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iznad  4,5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erijska vaginoza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ЕКОЛОШ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викал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л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пингит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ЕТРИЧ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oamnio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partalni endo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  i prevremeni porodj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уално преносиве б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лести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Condylomata accuminat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6,11,16,18,3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Trichomonas vagin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Chlamidi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Herpes  virus 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Gonorrho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Pediculosis pub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Syphi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7:23:47Z</dcterms:created>
  <dc:creator>Korisnik</dc:creator>
  <dc:description/>
  <dc:language>en-US</dc:language>
  <cp:lastModifiedBy>Mira Varjacic</cp:lastModifiedBy>
  <dcterms:modified xsi:type="dcterms:W3CDTF">2021-01-24T16:13:57Z</dcterms:modified>
  <cp:revision>125</cp:revision>
  <dc:subject/>
  <dc:title>BV  -BAKTERIJSKE VAGINOZE STD-SEKSUALNO PRENOSIVE BOLESTI</dc:title>
</cp:coreProperties>
</file>